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JO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JO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0C0DE-B6B2-4905-AB0D-A88B651AB1C1}" type="slidenum">
              <a:rPr b="0" lang="ar-JO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J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599A9-B4D8-4CA9-B46A-AA29FEBB405B}" type="slidenum">
              <a:rPr b="0" lang="ar-JO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J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B5BEE-DA08-40D7-A47A-A903EE1E8729}" type="slidenum">
              <a:rPr b="0" lang="ar-JO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EA4A2-451F-4AC5-8233-E94DC901256C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69CF6-612B-4BDF-B46B-F3B183D4E3E0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898F8-1A19-4E36-A48A-EBC1C47D952D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21053-6324-46A6-AA18-F11C4C053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48C93-3BD9-4CAD-986D-C8430E619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09010-BADC-47ED-8D47-699086265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90DB2-068D-4A14-9AED-F26DD47C1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AF8B3-32EF-4F71-977E-161646ECC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31614-6115-479F-8249-CAC663DA1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6D08A-7A98-41F7-A7D1-2EFA3208E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5DB71-DA1C-4314-9D35-4CBA8DF41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EE089-7C93-4218-AA85-08CB52F12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60089-7288-4481-B0A7-6AED74910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34093-81D8-43DC-8893-202C574CA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6C60E-2EB1-4957-9A85-7AB889FE8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J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9E6A4-DB6E-433D-A460-9FF62D4412CB}" type="datetime">
              <a:rPr b="0" lang="ar-JO" sz="1200" spc="-1" strike="noStrike">
                <a:solidFill>
                  <a:srgbClr val="898989"/>
                </a:solidFill>
                <a:latin typeface="Calibri"/>
              </a:rPr>
              <a:t>١٤٤٨/٠٢/١٥</a:t>
            </a:fld>
            <a:r>
              <a:rPr b="0" lang="ar-JO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59ADD8D6-459B-4E36-A506-740403CDE56D}" type="datetime10">
              <a:rPr b="0" lang="ar-JO" sz="1200" spc="-1" strike="noStrike">
                <a:solidFill>
                  <a:srgbClr val="898989"/>
                </a:solidFill>
                <a:latin typeface="Calibri"/>
              </a:rPr>
              <a:t>06:04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J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4A4D5-EB6B-499F-81C1-ACBCE8763105}" type="slidenum">
              <a:rPr b="0" lang="ar-J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572320" cy="14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i="1" lang="ar-JO" sz="1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071880"/>
            <a:ext cx="7858080" cy="30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Calibri"/>
              </a:rPr>
              <a:t>by</a:t>
            </a:r>
            <a:br>
              <a:rPr sz="3000"/>
            </a:br>
            <a:r>
              <a:rPr b="0" lang="en-US" sz="2200" spc="-1" strike="noStrike">
                <a:solidFill>
                  <a:srgbClr val="002060"/>
                </a:solidFill>
                <a:latin typeface="Andalus"/>
                <a:ea typeface="Andalus"/>
              </a:rPr>
              <a:t>Dr. Jamal Abu Saif</a:t>
            </a:r>
            <a:br>
              <a:rPr sz="3300"/>
            </a:br>
            <a:br>
              <a:rPr sz="3000"/>
            </a:br>
            <a:r>
              <a:rPr b="0" i="1" lang="en-US" sz="2200" spc="-1" strike="noStrike">
                <a:solidFill>
                  <a:srgbClr val="002060"/>
                </a:solidFill>
                <a:latin typeface="Calibri"/>
              </a:rPr>
              <a:t>MD, Arab Board in Community Medicine</a:t>
            </a:r>
            <a:br>
              <a:rPr sz="2200"/>
            </a:br>
            <a:r>
              <a:rPr b="0" lang="en-US" sz="26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i="1" lang="en-US" sz="2200" spc="-1" strike="noStrike">
                <a:solidFill>
                  <a:srgbClr val="002060"/>
                </a:solidFill>
                <a:latin typeface="Calibri"/>
              </a:rPr>
              <a:t>Director of Technical Affairs and Studi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2060"/>
                </a:solidFill>
                <a:latin typeface="Calibri"/>
              </a:rPr>
              <a:t>NHA Project Manager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2060"/>
                </a:solidFill>
                <a:latin typeface="Calibri"/>
              </a:rPr>
              <a:t>High Health Council - HHC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2060"/>
                </a:solidFill>
                <a:latin typeface="Calibri"/>
              </a:rPr>
              <a:t>Amman-Jorda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Rectangle 3"/>
          <p:cNvSpPr/>
          <p:nvPr/>
        </p:nvSpPr>
        <p:spPr>
          <a:xfrm>
            <a:off x="142920" y="285840"/>
            <a:ext cx="8858160" cy="27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Policy Implementation: Experiences from Jordan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12" descr="شعار المجلس "/>
          <p:cNvPicPr/>
          <p:nvPr/>
        </p:nvPicPr>
        <p:blipFill>
          <a:blip r:embed="rId1"/>
          <a:stretch/>
        </p:blipFill>
        <p:spPr>
          <a:xfrm>
            <a:off x="3500280" y="428760"/>
            <a:ext cx="190512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3" descr=""/>
          <p:cNvPicPr/>
          <p:nvPr/>
        </p:nvPicPr>
        <p:blipFill>
          <a:blip r:embed="rId1"/>
          <a:stretch/>
        </p:blipFill>
        <p:spPr>
          <a:xfrm>
            <a:off x="468360" y="642960"/>
            <a:ext cx="8136000" cy="559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Content Placeholder 3" descr=""/>
          <p:cNvPicPr/>
          <p:nvPr/>
        </p:nvPicPr>
        <p:blipFill>
          <a:blip r:embed="rId1"/>
          <a:stretch/>
        </p:blipFill>
        <p:spPr>
          <a:xfrm>
            <a:off x="281160" y="633240"/>
            <a:ext cx="8412120" cy="5499360"/>
          </a:xfrm>
          <a:prstGeom prst="rect">
            <a:avLst/>
          </a:prstGeom>
          <a:ln w="0">
            <a:noFill/>
          </a:ln>
        </p:spPr>
      </p:pic>
      <p:sp>
        <p:nvSpPr>
          <p:cNvPr id="70" name="Straight Connector 5"/>
          <p:cNvSpPr/>
          <p:nvPr/>
        </p:nvSpPr>
        <p:spPr>
          <a:xfrm flipH="1">
            <a:off x="3143160" y="5000040"/>
            <a:ext cx="1571760" cy="5713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Straight Connector 7"/>
          <p:cNvSpPr/>
          <p:nvPr/>
        </p:nvSpPr>
        <p:spPr>
          <a:xfrm flipH="1">
            <a:off x="4071960" y="5285520"/>
            <a:ext cx="714240" cy="4287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214200" y="1500120"/>
          <a:ext cx="8715600" cy="4430880"/>
        </p:xfrm>
        <a:graphic>
          <a:graphicData uri="http://schemas.openxmlformats.org/drawingml/2006/table">
            <a:tbl>
              <a:tblPr/>
              <a:tblGrid>
                <a:gridCol w="1658880"/>
                <a:gridCol w="2374920"/>
                <a:gridCol w="2503800"/>
                <a:gridCol w="2178000"/>
              </a:tblGrid>
              <a:tr h="1082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Count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THE as  percentage  of GD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Per capita health </a:t>
                      </a:r>
                      <a:r>
                        <a:rPr b="1" lang="ar-JO" sz="20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exp (US </a:t>
                      </a:r>
                      <a:r>
                        <a:rPr b="1" lang="en-US" sz="24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$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Public exp on health as percentage of TH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</a:tr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ord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r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ban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5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gyp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unis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m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3840" y="213840"/>
            <a:ext cx="8643960" cy="1143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oss-country comparison of NHA indicators WHO regional Health Observatory, 201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37680"/>
            <a:ext cx="8229600" cy="100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Per capita health care spending (JD)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Jordan NHA 2007-2011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Chart 4" descr=""/>
          <p:cNvPicPr/>
          <p:nvPr/>
        </p:nvPicPr>
        <p:blipFill>
          <a:blip r:embed="rId1"/>
          <a:stretch/>
        </p:blipFill>
        <p:spPr>
          <a:xfrm>
            <a:off x="0" y="0"/>
            <a:ext cx="8862840" cy="664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572320" cy="78588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tribution of HH Exp. By public and priva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4" descr=""/>
          <p:cNvPicPr/>
          <p:nvPr/>
        </p:nvPicPr>
        <p:blipFill>
          <a:blip r:embed="rId1"/>
          <a:stretch/>
        </p:blipFill>
        <p:spPr>
          <a:xfrm>
            <a:off x="1643040" y="1143000"/>
            <a:ext cx="5929200" cy="4500720"/>
          </a:xfrm>
          <a:prstGeom prst="rect">
            <a:avLst/>
          </a:prstGeom>
          <a:ln w="0">
            <a:noFill/>
          </a:ln>
        </p:spPr>
      </p:pic>
      <p:sp>
        <p:nvSpPr>
          <p:cNvPr id="78" name="TextBox 6"/>
          <p:cNvSpPr/>
          <p:nvPr/>
        </p:nvSpPr>
        <p:spPr>
          <a:xfrm>
            <a:off x="785880" y="5786280"/>
            <a:ext cx="72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Health Insurance coverage rate is 72%  ( without duplication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Breakdown of OOP Health Expenditure in the Private Health Sector 201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Chart 6" descr=""/>
          <p:cNvPicPr/>
          <p:nvPr/>
        </p:nvPicPr>
        <p:blipFill>
          <a:blip r:embed="rId1"/>
          <a:stretch/>
        </p:blipFill>
        <p:spPr>
          <a:xfrm>
            <a:off x="1779480" y="1494000"/>
            <a:ext cx="5224680" cy="44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37680"/>
            <a:ext cx="8229600" cy="947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Drug expenditure as percent of GDP 2007-2011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Chart 3" descr=""/>
          <p:cNvPicPr/>
          <p:nvPr/>
        </p:nvPicPr>
        <p:blipFill>
          <a:blip r:embed="rId1"/>
          <a:stretch/>
        </p:blipFill>
        <p:spPr>
          <a:xfrm>
            <a:off x="0" y="0"/>
            <a:ext cx="8790120" cy="666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858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 capita spending on drugs (JD) 2007-2011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Chart 3" descr=""/>
          <p:cNvPicPr/>
          <p:nvPr/>
        </p:nvPicPr>
        <p:blipFill>
          <a:blip r:embed="rId1"/>
          <a:stretch/>
        </p:blipFill>
        <p:spPr>
          <a:xfrm>
            <a:off x="0" y="0"/>
            <a:ext cx="8150400" cy="6004080"/>
          </a:xfrm>
          <a:prstGeom prst="rect">
            <a:avLst/>
          </a:prstGeom>
          <a:ln w="0">
            <a:noFill/>
          </a:ln>
        </p:spPr>
      </p:pic>
      <p:sp>
        <p:nvSpPr>
          <p:cNvPr id="86" name="TextBox 5"/>
          <p:cNvSpPr/>
          <p:nvPr/>
        </p:nvSpPr>
        <p:spPr>
          <a:xfrm>
            <a:off x="428760" y="5929200"/>
            <a:ext cx="828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alibri"/>
              </a:rPr>
              <a:t>Drug Exp. US$ 605 Million 27% of THE (36% OF THE in 2001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8920" y="304920"/>
            <a:ext cx="8659800" cy="96336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Public Expenditures by Function 2009-2011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152280" y="1357200"/>
          <a:ext cx="8763120" cy="5175360"/>
        </p:xfrm>
        <a:graphic>
          <a:graphicData uri="http://schemas.openxmlformats.org/drawingml/2006/table">
            <a:tbl>
              <a:tblPr/>
              <a:tblGrid>
                <a:gridCol w="1206720"/>
                <a:gridCol w="1116000"/>
                <a:gridCol w="1116000"/>
                <a:gridCol w="1117440"/>
                <a:gridCol w="1116000"/>
                <a:gridCol w="1149480"/>
                <a:gridCol w="1941480"/>
              </a:tblGrid>
              <a:tr h="351000">
                <a:tc gridSpan="2">
                  <a:txBody>
                    <a:bodyPr lIns="66600" rIns="6660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6600" rIns="6660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6600" rIns="6660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6600" rIns="66600" tIns="0" bIns="0" anchor="ctr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DZ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         </a:t>
                      </a:r>
                      <a:r>
                        <a:rPr b="1" lang="ar-JO" sz="15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سنة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ea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5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إنفاق الصحي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alth Exp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75000">
                <a:tc>
                  <a:txBody>
                    <a:bodyPr lIns="66600" rIns="6660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DZ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1" lang="ar-JO" sz="15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إنفا</a:t>
                      </a:r>
                      <a:r>
                        <a:rPr b="1" lang="ar-DZ" sz="15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ق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XP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DZ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5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إنفاق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XP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DZ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5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إنفاق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XP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5240">
                <a:tc>
                  <a:txBody>
                    <a:bodyPr lIns="9360" rIns="9360" tIns="9360" bIns="0" anchor="b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74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88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75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88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76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7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5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رعاية العلاجية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ospital Car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360" rIns="9360" tIns="9360" bIns="0" anchor="b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7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15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5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14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5.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5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رعاية الأولية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HC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7680">
                <a:tc>
                  <a:txBody>
                    <a:bodyPr lIns="9360" rIns="9360" tIns="9360" bIns="0" anchor="b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7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9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7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6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5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إدارة والخدمات المساندة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dmin. &amp; Servic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7680">
                <a:tc>
                  <a:txBody>
                    <a:bodyPr lIns="9360" rIns="9360" tIns="9360" bIns="0" anchor="b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1.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1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1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5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تدريب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1" lang="ar-DZ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raining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nd Research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9360" rIns="9360" tIns="9360" bIns="0" anchor="b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0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0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0.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5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أخرى</a:t>
                      </a:r>
                      <a:r>
                        <a:rPr b="1" lang="ar-DZ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thers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  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360" rIns="9360" tIns="9360" bIns="0" anchor="b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20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14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0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5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مجموع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HE   Public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   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9" name="Straight Connector 5"/>
          <p:cNvSpPr/>
          <p:nvPr/>
        </p:nvSpPr>
        <p:spPr>
          <a:xfrm flipV="1">
            <a:off x="7000920" y="1499760"/>
            <a:ext cx="1900080" cy="178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TextBox 4"/>
          <p:cNvSpPr/>
          <p:nvPr/>
        </p:nvSpPr>
        <p:spPr>
          <a:xfrm>
            <a:off x="7315200" y="632448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6"/>
          <p:cNvSpPr/>
          <p:nvPr/>
        </p:nvSpPr>
        <p:spPr>
          <a:xfrm>
            <a:off x="3886200" y="6546960"/>
            <a:ext cx="419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NHA Technical Reports, HHC-Jorda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Rectangle 2"/>
          <p:cNvGrpSpPr/>
          <p:nvPr/>
        </p:nvGrpSpPr>
        <p:grpSpPr>
          <a:xfrm>
            <a:off x="396720" y="590400"/>
            <a:ext cx="7661520" cy="702000"/>
            <a:chOff x="396720" y="590400"/>
            <a:chExt cx="7661520" cy="702000"/>
          </a:xfrm>
        </p:grpSpPr>
        <p:pic>
          <p:nvPicPr>
            <p:cNvPr id="93" name="Rectangle 2" descr=""/>
            <p:cNvPicPr/>
            <p:nvPr/>
          </p:nvPicPr>
          <p:blipFill>
            <a:blip r:embed="rId1"/>
            <a:stretch/>
          </p:blipFill>
          <p:spPr>
            <a:xfrm>
              <a:off x="396720" y="590400"/>
              <a:ext cx="7661520" cy="70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457200" y="685800"/>
              <a:ext cx="754380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Uses of National Health Accounts (NHA)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380520" y="121896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9960" indent="-39996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licy and planning tool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99960" indent="-39996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nderstanding health care financing &amp; expendi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99960" indent="-39996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cus on resource allocation and allocative efficienc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99960" indent="-39996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acilitate evidence-based decision mak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99960" indent="-39996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vide insight when dealing with insurance secto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99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3600" spc="-1" strike="noStrike">
                <a:solidFill>
                  <a:srgbClr val="002060"/>
                </a:solidFill>
                <a:latin typeface="Calibri"/>
              </a:rPr>
              <a:t>Vis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857240"/>
            <a:ext cx="8229600" cy="42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distinguished healthcare system within an integrated health sector that achieves an outstanding status for the kingdom on the health world map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42920" y="274320"/>
            <a:ext cx="8786880" cy="36828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Updating the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National 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Arial"/>
              </a:rPr>
              <a:t>Agenda of the health sector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2005 -2017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78588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he Prime Minister has formed four committee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he Minister of planning is the head of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700" spc="-1" strike="noStrike">
                <a:solidFill>
                  <a:srgbClr val="00b050"/>
                </a:solidFill>
                <a:latin typeface="Calibri"/>
              </a:rPr>
              <a:t>ministerial committee of all sectors in the country</a:t>
            </a:r>
            <a:r>
              <a:rPr b="0" lang="en-US" sz="2700" spc="-1" strike="noStrike">
                <a:solidFill>
                  <a:srgbClr val="00b050"/>
                </a:solidFill>
                <a:latin typeface="Calibri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he SG of the Ministry of Planning is the head of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70c0"/>
                </a:solidFill>
                <a:latin typeface="Calibri"/>
              </a:rPr>
              <a:t>sectoral coordination committee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(HHC-SG is a member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he head of </a:t>
            </a:r>
            <a:r>
              <a:rPr b="1" lang="en-US" sz="2700" spc="-1" strike="noStrike">
                <a:solidFill>
                  <a:srgbClr val="c00000"/>
                </a:solidFill>
                <a:latin typeface="Calibri"/>
              </a:rPr>
              <a:t>health sector committee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s the HHC-SG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en-US" sz="2700" spc="-1" strike="noStrike">
                <a:solidFill>
                  <a:srgbClr val="7030a0"/>
                </a:solidFill>
                <a:latin typeface="Calibri"/>
              </a:rPr>
              <a:t>technical committee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was formed at HHC and was reporting to HHC-SG  (NA : updated 2013-2022 after preparing  a progress report on the achievements of  the national agenda interventions ( up to 2012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HHC in collaboration with health and health related partners: MOH, RMS, JNC,UHs, HPC, JHA, JFDA, GDCD, ….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4"/>
          <p:cNvSpPr/>
          <p:nvPr/>
        </p:nvSpPr>
        <p:spPr>
          <a:xfrm>
            <a:off x="1928880" y="214200"/>
            <a:ext cx="5286240" cy="9288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e Prime Minister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Rectangle 5"/>
          <p:cNvSpPr/>
          <p:nvPr/>
        </p:nvSpPr>
        <p:spPr>
          <a:xfrm>
            <a:off x="2000160" y="1571760"/>
            <a:ext cx="5143680" cy="9284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Minister of plann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Ministerial committee of all sectors in the countr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Rectangle 6"/>
          <p:cNvSpPr/>
          <p:nvPr/>
        </p:nvSpPr>
        <p:spPr>
          <a:xfrm>
            <a:off x="2143080" y="2928960"/>
            <a:ext cx="4929120" cy="9288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The SG of the Ministry of Plann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Sectoral coordination committe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2714760" y="4286160"/>
            <a:ext cx="3857400" cy="9288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HHC-S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Health sector committe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Rectangle 8"/>
          <p:cNvSpPr/>
          <p:nvPr/>
        </p:nvSpPr>
        <p:spPr>
          <a:xfrm>
            <a:off x="3143160" y="5643720"/>
            <a:ext cx="3000600" cy="9284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HHC Technical Direct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Technical Committe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3" name="Straight Arrow Connector 12"/>
          <p:cNvCxnSpPr>
            <a:stCxn id="98" idx="2"/>
            <a:endCxn id="99" idx="0"/>
          </p:cNvCxnSpPr>
          <p:nvPr/>
        </p:nvCxnSpPr>
        <p:spPr>
          <a:xfrm flipH="1">
            <a:off x="4570200" y="1142640"/>
            <a:ext cx="3600" cy="429480"/>
          </a:xfrm>
          <a:prstGeom prst="straightConnector1">
            <a:avLst/>
          </a:prstGeom>
          <a:ln w="381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04" name="Straight Arrow Connector 13"/>
          <p:cNvCxnSpPr/>
          <p:nvPr/>
        </p:nvCxnSpPr>
        <p:spPr>
          <a:xfrm flipH="1">
            <a:off x="4571640" y="2499840"/>
            <a:ext cx="2160" cy="429480"/>
          </a:xfrm>
          <a:prstGeom prst="straightConnector1">
            <a:avLst/>
          </a:prstGeom>
          <a:ln w="381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05" name="Straight Arrow Connector 14"/>
          <p:cNvCxnSpPr/>
          <p:nvPr/>
        </p:nvCxnSpPr>
        <p:spPr>
          <a:xfrm flipH="1">
            <a:off x="4570200" y="3857760"/>
            <a:ext cx="2160" cy="429120"/>
          </a:xfrm>
          <a:prstGeom prst="straightConnector1">
            <a:avLst/>
          </a:prstGeom>
          <a:ln w="381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06" name="Straight Arrow Connector 15"/>
          <p:cNvCxnSpPr/>
          <p:nvPr/>
        </p:nvCxnSpPr>
        <p:spPr>
          <a:xfrm flipH="1">
            <a:off x="4570200" y="5214600"/>
            <a:ext cx="2160" cy="429480"/>
          </a:xfrm>
          <a:prstGeom prst="straightConnector1">
            <a:avLst/>
          </a:prstGeom>
          <a:ln w="381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2120" y="333360"/>
            <a:ext cx="7554960" cy="10843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Main Health Sector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Goals-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National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Agenda 202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proving health care services in accordance with international standard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rengthening public-private partnership in order to create a  distinguished healthcare system based on integration, and to limit waste and duplica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proving health system performanc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ing health insurance coverage to all citizen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imit the prevalence of NC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auses of mortality in Jorda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Chart 23624" descr=""/>
          <p:cNvPicPr/>
          <p:nvPr/>
        </p:nvPicPr>
        <p:blipFill>
          <a:blip r:embed="rId1"/>
          <a:stretch/>
        </p:blipFill>
        <p:spPr>
          <a:xfrm>
            <a:off x="428760" y="1071720"/>
            <a:ext cx="8358120" cy="5143320"/>
          </a:xfrm>
          <a:prstGeom prst="rect">
            <a:avLst/>
          </a:prstGeom>
          <a:ln w="0">
            <a:noFill/>
          </a:ln>
        </p:spPr>
      </p:pic>
      <p:sp>
        <p:nvSpPr>
          <p:cNvPr id="111" name="TextBox 4"/>
          <p:cNvSpPr/>
          <p:nvPr/>
        </p:nvSpPr>
        <p:spPr>
          <a:xfrm>
            <a:off x="785880" y="5572080"/>
            <a:ext cx="1214280" cy="368280"/>
          </a:xfrm>
          <a:prstGeom prst="rect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C-V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2143080" y="5572080"/>
            <a:ext cx="1143000" cy="368280"/>
          </a:xfrm>
          <a:prstGeom prst="rect">
            <a:avLst/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canc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TextBox 6"/>
          <p:cNvSpPr/>
          <p:nvPr/>
        </p:nvSpPr>
        <p:spPr>
          <a:xfrm>
            <a:off x="3500280" y="5572080"/>
            <a:ext cx="1357560" cy="368280"/>
          </a:xfrm>
          <a:prstGeom prst="rect">
            <a:avLst/>
          </a:prstGeom>
          <a:gradFill rotWithShape="0">
            <a:gsLst>
              <a:gs pos="0">
                <a:srgbClr val="cb6c1d"/>
              </a:gs>
              <a:gs pos="100000">
                <a:srgbClr val="ff8f26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Accide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TextBox 7"/>
          <p:cNvSpPr/>
          <p:nvPr/>
        </p:nvSpPr>
        <p:spPr>
          <a:xfrm>
            <a:off x="5072040" y="5572080"/>
            <a:ext cx="1143000" cy="368280"/>
          </a:xfrm>
          <a:prstGeom prst="rect">
            <a:avLst/>
          </a:prstGeom>
          <a:gradFill rotWithShape="0">
            <a:gsLst>
              <a:gs pos="0">
                <a:srgbClr val="5d417e"/>
              </a:gs>
              <a:gs pos="100000">
                <a:srgbClr val="7b57a8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Infectiou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TextBox 8"/>
          <p:cNvSpPr/>
          <p:nvPr/>
        </p:nvSpPr>
        <p:spPr>
          <a:xfrm>
            <a:off x="6286680" y="5572080"/>
            <a:ext cx="1285560" cy="3682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Oth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0040" y="380520"/>
            <a:ext cx="8215200" cy="7621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oving towards comprehensive Health Insur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42920" y="1714320"/>
            <a:ext cx="8786880" cy="46098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>
              <a:lnSpc>
                <a:spcPct val="150000"/>
              </a:lnSpc>
              <a:spcBef>
                <a:spcPts val="700"/>
              </a:spcBef>
              <a:buClr>
                <a:srgbClr val="320e0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0e04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320e04"/>
                </a:solidFill>
                <a:latin typeface="Calibri"/>
              </a:rPr>
              <a:t>Providing all people with access to needed health servi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000">
              <a:lnSpc>
                <a:spcPct val="150000"/>
              </a:lnSpc>
              <a:spcBef>
                <a:spcPts val="700"/>
              </a:spcBef>
              <a:buClr>
                <a:srgbClr val="320e0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0e04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320e04"/>
                </a:solidFill>
                <a:latin typeface="Calibri"/>
              </a:rPr>
              <a:t>Reviving primary health care servi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000">
              <a:lnSpc>
                <a:spcPct val="150000"/>
              </a:lnSpc>
              <a:spcBef>
                <a:spcPts val="700"/>
              </a:spcBef>
              <a:buClr>
                <a:srgbClr val="320e0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0e04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320e04"/>
                </a:solidFill>
                <a:latin typeface="Calibri"/>
              </a:rPr>
              <a:t>Controlling health care cos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000">
              <a:lnSpc>
                <a:spcPct val="150000"/>
              </a:lnSpc>
              <a:spcBef>
                <a:spcPts val="700"/>
              </a:spcBef>
              <a:buClr>
                <a:srgbClr val="320e0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0e04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320e04"/>
                </a:solidFill>
                <a:latin typeface="Calibri"/>
              </a:rPr>
              <a:t>Utilizing scarce resources efficient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456840" y="1714320"/>
            <a:ext cx="8458200" cy="441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quity in accessing affordable health care servic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reasing the financial protection of the people and protecting households from facing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mpoverishmen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atastrophic health expenditure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ccessible and affordable servic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creasing households’ expenditures on health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Text Box 3"/>
          <p:cNvSpPr/>
          <p:nvPr/>
        </p:nvSpPr>
        <p:spPr>
          <a:xfrm>
            <a:off x="4251240" y="8748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214200" y="571680"/>
            <a:ext cx="8501040" cy="94716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ving towards comprehensive Health Insur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5480"/>
            <a:ext cx="8229600" cy="78588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ain HHC achieve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Health Map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edical responsibility law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National agenda 2022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NHSs (NHS, NHS for health communication, NHS for the elderly, RHAP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Human Resources for Health observator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urveys and studies such as: health insurance and OOP spending, availability of drugs at facility level and from HH perspectives,, and FFC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ain HHC achieve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285480" y="1413000"/>
            <a:ext cx="864396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National surveys, studies, technical reports and policy briefs, such a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Health insurance coverage and health exp. survey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Distribution of health care payments and FFC study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HH and facility survey on availability and pricing of drug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tudy on corruption in health sector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Policy brief on HRH- Jordan’s coordination and facilitation policy 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Policy brief on retention of MOH physicians in remote underserved area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National Health Accounts NHA annual technical report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8600" y="356760"/>
            <a:ext cx="8610480" cy="71460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uture HHC activi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alysis of studying medical sciences and setting  recommendations to address market need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inking the incentive system of the public employees with the performance indicato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dical ethics in conducting experimental clinical trials in Jorda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uilding national capacity on Costing of health care services (refugees, contracting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229600" cy="7855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uture HHC activi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 algn="r">
              <a:lnSpc>
                <a:spcPct val="14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dopting certificate of need to control capital expenditure in health care services, &amp; limit the unnecessary expansion of these service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 algn="r">
              <a:lnSpc>
                <a:spcPct val="14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upporting and improving primary healthcare service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14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nsuring equity in access to affordable  healthcare focusing on the poor, disabled, and other high risk categorie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 algn="r">
              <a:lnSpc>
                <a:spcPct val="14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tting national clinical practice guideline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603360" indent="0" algn="just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(accreditation, medical tourism, Medical liability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60336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Calibri"/>
              </a:rPr>
              <a:t>Mission</a:t>
            </a:r>
            <a:r>
              <a:rPr b="1" lang="en-US" sz="32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o draw up integrated health policie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ith the participation with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ll health sector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ithin the kingdom; so as to ensure the provision of distinguished healthcare services with a noble humanitarian goal within a sound health economy that strengthens Jordan’s leading position in the field of healthcar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328680"/>
            <a:ext cx="7848720" cy="88560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in Causes of health care system inefficiencies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6840" y="1428480"/>
            <a:ext cx="8534520" cy="470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ealth System Fragmentatio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65000" indent="-282240">
              <a:lnSpc>
                <a:spcPct val="140000"/>
              </a:lnSpc>
              <a:spcBef>
                <a:spcPts val="4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Calibri"/>
              </a:rPr>
              <a:t>Radical change  was failed in 1988 (combing MOH and RM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rrational use of Medicine and Health Technolog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65000" indent="-282240">
              <a:lnSpc>
                <a:spcPct val="140000"/>
              </a:lnSpc>
              <a:spcBef>
                <a:spcPts val="601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Calibri"/>
              </a:rPr>
              <a:t>HHC strategy on Dug Rationalization 2012-201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65000" indent="-282240">
              <a:lnSpc>
                <a:spcPct val="140000"/>
              </a:lnSpc>
              <a:spcBef>
                <a:spcPts val="4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Calibri"/>
              </a:rPr>
              <a:t>MeTA Project – JFDA ( availability, accessibility and affordability of drug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adequate financial and other incentives prevalent in the syste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65000" indent="-282240">
              <a:lnSpc>
                <a:spcPct val="140000"/>
              </a:lnSpc>
              <a:spcBef>
                <a:spcPts val="601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Calibri"/>
              </a:rPr>
              <a:t>Absence of performance based incentives progra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 algn="r" rtl="1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 algn="r" rtl="1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olicy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the process of turning policy into practic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alibri"/>
              </a:rPr>
              <a:t>Are Policy Formulation and Implementation interdependent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alibri"/>
              </a:rPr>
              <a:t>If yes, should policy initiators consider them in combination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357120"/>
            <a:ext cx="8229600" cy="106056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hallenges Facing HHC and policy implement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14200" y="1428840"/>
            <a:ext cx="878688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imited financial resources allocated for national health projects, health policy research, and health policy analysi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ack of updated information and statistics needed for health policy formula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olicy research and analys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ack of monitoring and evaluation capacity in the area of health policies </a:t>
            </a:r>
            <a:r>
              <a:rPr b="0" lang="en-US" sz="2800" spc="-1" strike="noStrike">
                <a:solidFill>
                  <a:srgbClr val="0070c0"/>
                </a:solidFill>
                <a:latin typeface="Calibri"/>
              </a:rPr>
              <a:t>(Evaluation is crucial for policy improvement or policy terminatio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57120"/>
            <a:ext cx="8229600" cy="106056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hallenges Facing HHC and policy implement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14200" y="1571400"/>
            <a:ext cx="8786880" cy="48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gh turnover of Governments which affect implement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eek representation of private secto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vening stakehold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ack of capacity on leadership which is necessary to resolve the conflict of interest regarding policy design and implementa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ow motivation or commitment due to different priorities, lack of incentives,  and limited resource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Reasons of Policy fail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licy failure can occur as a result of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ad execu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ad policy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ad luck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ffective implementation will be viewed by policy-makers as bad execution or bad luck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licy-makers don’t admit  that the policy itself was defective or ba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Reasons of Policy fail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licy failure or an implementation gap can occur when policy is imposed from the centre with no thought given to how it might be perceived or received at local leve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balance between the bottom up and top down approaches to policy and action is often necessar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licy could be modified or adapted in advance of its implementation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Reasons of Policy fail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should involve a process of interaction between organizations whose members may have different values, perspectives and prioritie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policy is to be successfully implemented then those who have responsibility for its implementation should be involved in its desig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42960" y="2999880"/>
            <a:ext cx="8043840" cy="312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 rtl="1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Bookman Old Style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Picture 3" descr="شعار المجلس "/>
          <p:cNvPicPr/>
          <p:nvPr/>
        </p:nvPicPr>
        <p:blipFill>
          <a:blip r:embed="rId1"/>
          <a:stretch/>
        </p:blipFill>
        <p:spPr>
          <a:xfrm>
            <a:off x="3714840" y="928800"/>
            <a:ext cx="190476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465120"/>
            <a:ext cx="8229600" cy="14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High Health Council - HHC </a:t>
            </a:r>
            <a:br>
              <a:rPr sz="32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2060"/>
                </a:solidFill>
                <a:latin typeface="Calibri"/>
              </a:rPr>
              <a:t>Law No. 9 for the year 1999</a:t>
            </a:r>
            <a:r>
              <a:rPr b="1" lang="en-US" sz="4800" spc="-1" strike="noStrike">
                <a:solidFill>
                  <a:srgbClr val="002060"/>
                </a:solidFill>
                <a:latin typeface="Calibri"/>
              </a:rPr>
              <a:t> </a:t>
            </a:r>
            <a:br>
              <a:rPr sz="3200"/>
            </a:b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2055960"/>
            <a:ext cx="8229600" cy="407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bjectiv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   </a:t>
            </a: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To formulate the general policy of the health sector and to put forward the strategy to achieve it in order to organize and develop the health work in the Kingdom as a whol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Membership of HH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Chairperson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: The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ime Minist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Vice-chairperson: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e Minister of Health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Members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: 11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inister of Financ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inister of Planning and International Cooper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inister of Social Developmen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inister of Lab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e General Director of Royal Medical Servic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e president of Private Hospital Associ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an of one of the medical faculties in the official Jordanian universities </a:t>
            </a:r>
            <a:r>
              <a:rPr b="0" lang="en-US" sz="2200" spc="-1" strike="noStrike">
                <a:solidFill>
                  <a:srgbClr val="0070c0"/>
                </a:solidFill>
                <a:latin typeface="Calibri"/>
              </a:rPr>
              <a:t>appointed by the president every two years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e president of Jordan medical associatio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e head of one of the health associations </a:t>
            </a:r>
            <a:r>
              <a:rPr b="0" lang="en-US" sz="2200" spc="-1" strike="noStrike">
                <a:solidFill>
                  <a:srgbClr val="0070c0"/>
                </a:solidFill>
                <a:latin typeface="Calibri"/>
              </a:rPr>
              <a:t>appointed by the president every two year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wo experts from the private sector </a:t>
            </a:r>
            <a:r>
              <a:rPr b="0" lang="en-US" sz="2200" spc="-1" strike="noStrike">
                <a:solidFill>
                  <a:srgbClr val="0070c0"/>
                </a:solidFill>
                <a:latin typeface="Calibri"/>
              </a:rPr>
              <a:t>appointed by the president every two years.  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7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HHC Responsibilitie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eriodic evaluation of health policies and introducing needed amendments after implementation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5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dentifying the needs of the health sector and taking decisions regarding equitable distribution of health services across the kingdo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libri"/>
              </a:rPr>
              <a:t>    </a:t>
            </a:r>
            <a:r>
              <a:rPr b="0" lang="en-US" sz="2600" spc="-1" strike="noStrike">
                <a:solidFill>
                  <a:srgbClr val="0070c0"/>
                </a:solidFill>
                <a:latin typeface="Calibri"/>
              </a:rPr>
              <a:t>( Jordan health map experience- equitable   distribution of public health centers and decreasing social influence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3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r>
              <a:rPr b="1" lang="en-US" sz="2900" spc="-1" strike="noStrike">
                <a:solidFill>
                  <a:srgbClr val="000000"/>
                </a:solidFill>
                <a:latin typeface="Arial"/>
                <a:ea typeface="Arial"/>
              </a:rPr>
              <a:t>HHC Responsibilities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571400"/>
            <a:ext cx="8534520" cy="455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ordinating work of health institutions in both public and private sectors to guarantee integration of their work </a:t>
            </a:r>
            <a:r>
              <a:rPr b="0" lang="en-US" sz="2800" spc="-1" strike="noStrike">
                <a:solidFill>
                  <a:srgbClr val="0070c0"/>
                </a:solidFill>
                <a:latin typeface="Calibri"/>
              </a:rPr>
              <a:t>(Regular meetings with liaison officer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udying the proposed laws, bylaws, and regulations of the HHC and the health sector and submitting the necessary recommendations. </a:t>
            </a:r>
            <a:r>
              <a:rPr b="0" lang="en-US" sz="2800" spc="-1" strike="noStrike">
                <a:solidFill>
                  <a:srgbClr val="0070c0"/>
                </a:solidFill>
                <a:latin typeface="Calibri"/>
              </a:rPr>
              <a:t>( Medical liability law. NHA data collection bylaw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HHC Responsibiliti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53452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udying problems and obstacles facing the health sector and providing statistics and data for decision making pertaining to health system restructur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spcBef>
                <a:spcPts val="700"/>
              </a:spcBef>
              <a:buClr>
                <a:srgbClr val="007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alibri"/>
              </a:rPr>
              <a:t>Jordan HRH observatory :equitable distribution of health work force.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spcBef>
                <a:spcPts val="700"/>
              </a:spcBef>
              <a:buClr>
                <a:srgbClr val="007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alibri"/>
              </a:rPr>
              <a:t>Jordan National Health Accounts annual technical reports (6 round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57120" y="274680"/>
            <a:ext cx="8429760" cy="58248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HA reports in Jorda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457200" y="1000080"/>
          <a:ext cx="8329680" cy="5486400"/>
        </p:xfrm>
        <a:graphic>
          <a:graphicData uri="http://schemas.openxmlformats.org/drawingml/2006/table">
            <a:tbl>
              <a:tblPr/>
              <a:tblGrid>
                <a:gridCol w="1890720"/>
                <a:gridCol w="1827360"/>
                <a:gridCol w="3168360"/>
                <a:gridCol w="1443240"/>
              </a:tblGrid>
              <a:tr h="1128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iscal ye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ssued / Ye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Hosted b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HA team Rank No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</a:tr>
              <a:tr h="763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9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2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MOH (PHR Proje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Fir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718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2000-20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20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MOH (PHR </a:t>
                      </a:r>
                      <a:r>
                        <a:rPr b="1" i="1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plus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 Proje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Fir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719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HC (WHO T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co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718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HC (WHO T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co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717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HC (WHO T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co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718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0-20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HC (WHO T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co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3T19:08:21Z</dcterms:created>
  <dc:creator>User</dc:creator>
  <dc:description/>
  <dc:language>en-US</dc:language>
  <cp:lastModifiedBy>USER</cp:lastModifiedBy>
  <dcterms:modified xsi:type="dcterms:W3CDTF">2013-06-05T11:36:59Z</dcterms:modified>
  <cp:revision>366</cp:revision>
  <dc:subject/>
  <dc:title>Informed health policy</dc:title>
</cp:coreProperties>
</file>